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712-0839-4430-A93D-95DE12B8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4F8-711D-428E-B4F2-1E6B9CD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6E5-47EC-45F1-8B5E-9AA0B16E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5B2-2A2E-4FA7-AF69-425FF79B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4BA-0B48-4D52-AE16-C6E21103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B823-B693-4460-B25E-84CA1758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47B-800A-48FF-8974-9904B81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548-41F5-4D42-A55F-F4997AC4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725-EAE8-4094-8936-90E759F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028-52E3-4C4C-9BDB-3DCFD07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B767-2B9F-479E-B57C-5732AF7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89B-52E2-4DE8-86AD-3694CA5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81C3-ABAF-47B7-BA7A-E295841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9C9D-B5E5-4071-B873-7F462AD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7C1-F57F-4D91-B0C8-90A5C9A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C12-4584-4483-A38E-F57DB50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22DA-990D-48BC-95B2-C78F6F75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5076-09E5-4B73-9E88-990ADC60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719B-E0B4-444C-94E0-57783275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9BBD-12E9-4650-A17F-0351E97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FADE-59B2-4CFA-889F-F5AD123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AA2B-B665-4D1C-BDBA-18078258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FDC-0ECC-4E4C-8B74-05D4EB1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5532-44C2-42FC-846C-B1F2358E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A905-9F34-4657-B318-70B0631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6E07-3560-49FD-B253-01028CE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6A9A-0A6E-4FFB-A9A2-CFB2BB9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1378-022C-4F07-BFF3-838207E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0246-9AB7-4473-9120-8BC74761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4E47-12E9-4C32-A0FC-54DEDD82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1600-A2B7-4FBD-A6B1-C41E8564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938F-D925-48FA-92B0-14253EA7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E03A-F153-4BB2-B489-C9C17D56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1CF-FD53-484D-96BC-11C63809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9F6F-8F8C-4115-A9AC-2F5395B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0D0E-D4AC-4285-A69E-20F74C0B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2CCC-44EB-4B86-A022-A8BBE85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2A53-622D-408E-A9E5-9E8E8EB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9CD2-F75E-4671-8F42-5524A49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D742-397B-4199-B706-9C53108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581A-2131-4E92-A604-52BFB4B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9731-43AA-4BD7-A47E-4674B875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8A13-A458-491E-AB3D-75184007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5B69-2F7A-4B1E-AD4C-861DEF53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FC1-7E84-4AC4-A1AA-CF1B185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1E8D-93B2-41A8-A4BC-FC64A489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41E0-7897-46AA-9A04-6C7880F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D69E-28D5-41B0-BD61-10BB187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9981-41E8-47A4-87EC-4EEE403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0BAF-DF50-42CE-A989-96734EE1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AD1E-BF69-46C4-87A4-5E282D0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8353-EB9C-47EE-B07F-8DDBA3F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1492-490F-436E-96A9-D7ACA4D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67B3-34E9-4BB4-816E-4F7E640F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BA50-6F62-456A-9377-DD0CA5E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39A-87A0-433F-9FD5-82A59606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D86E-D9D3-4696-A727-6C73DBE3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82F-82B9-4F85-9D12-04ABA59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DAE-0ED1-4383-A328-758E158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BB3-C7DC-458B-A8D8-2A28163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48EC-75B2-4A20-9AF8-20BAC023749F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6CE-9099-424F-A8F2-6A6867046D2E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C23-0FDD-4D0A-A1F4-3E8F6BFB2A87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F95-BC86-40C2-953F-64F90306E200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5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133-DED5-4670-B358-8DA8C4235DF2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1816200" y="1878120"/>
            <a:ext cx="7181640" cy="1633320"/>
            <a:chOff x="1816200" y="1878120"/>
            <a:chExt cx="7181640" cy="16333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1816200" y="1878120"/>
              <a:ext cx="718164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1893960" y="1959120"/>
              <a:ext cx="7021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80"/>
                  </a:solidFill>
                  <a:latin typeface="Comic Sans MS"/>
                </a:rPr>
                <a:t>Being a Good Citiz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Subtitle 2"/>
          <p:cNvGrpSpPr/>
          <p:nvPr/>
        </p:nvGrpSpPr>
        <p:grpSpPr>
          <a:xfrm>
            <a:off x="2127240" y="3657600"/>
            <a:ext cx="6559560" cy="1378080"/>
            <a:chOff x="2127240" y="3657600"/>
            <a:chExt cx="6559560" cy="1378080"/>
          </a:xfrm>
        </p:grpSpPr>
        <p:pic>
          <p:nvPicPr>
            <p:cNvPr id="641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657600"/>
              <a:ext cx="65595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203560" y="3733920"/>
              <a:ext cx="64008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B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Angela Carus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B.C.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September 20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44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UNIT PLAN SUMMARY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4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Click to add tex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omic Sans MS"/>
              </a:rPr>
              <a:t>CURRICULUM FRAMING QUESTIONS</a:t>
            </a:r>
            <a:endParaRPr b="1" lang="en-US" sz="40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Unit 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Content 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23:43Z</dcterms:created>
  <dc:creator>acaruso</dc:creator>
  <dc:description/>
  <cp:keywords/>
  <dc:language>en-US</dc:language>
  <cp:lastModifiedBy>acaruso</cp:lastModifiedBy>
  <dcterms:modified xsi:type="dcterms:W3CDTF">2010-06-30T18:39:2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9990</vt:lpwstr>
  </property>
</Properties>
</file>